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FDF-B5D0-43B1-A0B7-0EB2928D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443-9B1E-443E-8C26-8EF64033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12B-8513-4729-819B-DD131669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A5E-671B-45C5-994B-F61F9608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E257-6D95-4371-9EBE-4CDE2475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245-CFA3-4ADB-8199-DF1B71ED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576-DE67-4C5F-A590-335934B4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83E-7703-4E9D-8A42-115A46D2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2BF-07E3-4275-8390-95165B03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3BE-D722-4821-851C-7E6970BE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A80-A911-4BF5-8A65-5A2D3274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14D3-E69F-4D08-8612-DB2725CE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C894-BA85-41EB-A003-0FAE5B9E871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sp>
        <p:nvSpPr>
          <p:cNvPr id="42" name="2 Dikdörtgen"/>
          <p:cNvSpPr/>
          <p:nvPr/>
        </p:nvSpPr>
        <p:spPr>
          <a:xfrm>
            <a:off x="1071720" y="1643040"/>
            <a:ext cx="678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alibri"/>
              </a:rPr>
              <a:t>MANDALA SEMBOLLER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sp>
        <p:nvSpPr>
          <p:cNvPr id="44" name="2 Dikdörtgen"/>
          <p:cNvSpPr/>
          <p:nvPr/>
        </p:nvSpPr>
        <p:spPr>
          <a:xfrm>
            <a:off x="1428840" y="0"/>
            <a:ext cx="63579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Calibri"/>
              </a:rPr>
              <a:t>RESİM 13 Mandala Komposizy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C:\Documents and Settings\QWQ\Belgelerim\Resimlerim\mandala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sp>
        <p:nvSpPr>
          <p:cNvPr id="47" name="2 Dikdörtgen"/>
          <p:cNvSpPr/>
          <p:nvPr/>
        </p:nvSpPr>
        <p:spPr>
          <a:xfrm>
            <a:off x="1428840" y="61437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Calibri"/>
              </a:rPr>
              <a:t>RESİM 14 Mandala Komposizyonu (Yaşam Ağacı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QWQ\Belgelerim\Resimlerim\mandala-tree-of-life-drawi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215040"/>
          </a:xfrm>
          <a:prstGeom prst="rect">
            <a:avLst/>
          </a:prstGeom>
          <a:ln w="0">
            <a:noFill/>
          </a:ln>
        </p:spPr>
      </p:pic>
      <p:pic>
        <p:nvPicPr>
          <p:cNvPr id="49" name="tears in heaven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Documents and Settings\QWQ\Belgelerim\Resimlerim\mandalaow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QWQ\Belgelerim\Resimlerim\manda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QWQ\Belgelerim\Resimlerim\malvorlage-mandala-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:\Documents and Settings\QWQ\Belgelerim\Resimlerim\adsız2.bmp"/>
          <p:cNvPicPr/>
          <p:nvPr/>
        </p:nvPicPr>
        <p:blipFill>
          <a:blip r:embed="rId1"/>
          <a:stretch/>
        </p:blipFill>
        <p:spPr>
          <a:xfrm>
            <a:off x="1476360" y="262080"/>
            <a:ext cx="6191280" cy="63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Documents and Settings\QWQ\Belgelerim\Resimlerim\adsız1.bmp"/>
          <p:cNvPicPr/>
          <p:nvPr/>
        </p:nvPicPr>
        <p:blipFill>
          <a:blip r:embed="rId1"/>
          <a:stretch/>
        </p:blipFill>
        <p:spPr>
          <a:xfrm>
            <a:off x="21420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QWQ\Local Settings\Temporary Internet Files\Content.IE5\W123OPUV\MP900289149[2].jpg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7088040"/>
          </a:xfrm>
          <a:prstGeom prst="rect">
            <a:avLst/>
          </a:prstGeom>
          <a:ln w="0">
            <a:noFill/>
          </a:ln>
        </p:spPr>
      </p:pic>
      <p:pic>
        <p:nvPicPr>
          <p:cNvPr id="59" name="3 Dikdörtgen" descr=""/>
          <p:cNvPicPr/>
          <p:nvPr/>
        </p:nvPicPr>
        <p:blipFill>
          <a:blip r:embed="rId2"/>
          <a:stretch/>
        </p:blipFill>
        <p:spPr>
          <a:xfrm>
            <a:off x="493560" y="774720"/>
            <a:ext cx="81568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4:00:36Z</dcterms:created>
  <dc:creator>levent</dc:creator>
  <dc:description/>
  <dc:language>en-US</dc:language>
  <cp:lastModifiedBy>levent</cp:lastModifiedBy>
  <dcterms:modified xsi:type="dcterms:W3CDTF">2010-10-09T14:00:54Z</dcterms:modified>
  <cp:revision>1</cp:revision>
  <dc:subject/>
  <dc:title>Slayt 1</dc:title>
</cp:coreProperties>
</file>